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2EDD4-6936-4DB5-9E3D-291423E4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75D91-1BA5-4725-BFE6-727557B12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D2944-66A5-4C7B-965F-0455E5DFA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1DD84-00DF-4BF3-AAB1-45F2F65FB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713F6-C762-4F4D-AB17-FD2D188E1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0D866-C69B-4BAB-A5CD-BCADF869A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90D2-137D-4CFC-ADEE-732986955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104DB-0864-4515-B7FE-8A19446D3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8274-F371-4BEC-88F6-F6094103D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5CC9B-1691-412F-BD72-A0F4769D3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978F7-2B70-49B2-AE66-F3F670501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3B17-2AAE-45C2-BA38-BA7758DC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56154-D558-4888-8391-774C1BC0D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A2DA-A7E0-44DE-8FB0-2124C6FDE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B986E-B715-4765-9166-7FCBDAA00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02CDF-AD6D-4F1F-9AE6-98B3FA35E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F6A12-5F80-4287-8CC4-CD2130D85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F6914-9A48-4AB9-BBF7-350AC7F5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C2F5-E61B-41BD-867D-4C6C9B73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84B9D-1DDB-4133-A704-CB6495F97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9EDB-45C7-4470-BE1F-5BEEBBF1B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3EB04-315E-42E4-9A4B-186FBB5B3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B215-99B6-46CE-9A2A-C3FF738C5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BB66-CD03-486B-AEFF-FB60484A6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8344-A1E0-4A58-B44C-FFD3A5320253}"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F913-1C4A-4D7B-932D-E91E61F46917}"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EDG 4410</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Teaching Strategies and Classroom Management</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University of Central Florida, Orlando, FL</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Dr. Verkl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Fall 2014</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3"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34" dur="500"/>
                                        <p:tgtEl>
                                          <p:spTgt spid="112">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39" dur="500"/>
                                        <p:tgtEl>
                                          <p:spTgt spid="112">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44" dur="500"/>
                                        <p:tgtEl>
                                          <p:spTgt spid="112">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49" dur="500"/>
                                        <p:tgtEl>
                                          <p:spTgt spid="112">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54"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5"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6"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61" dur="500"/>
                                        <p:tgtEl>
                                          <p:spTgt spid="115">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66"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8"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73" dur="500"/>
                                        <p:tgtEl>
                                          <p:spTgt spid="118">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78" dur="500"/>
                                        <p:tgtEl>
                                          <p:spTgt spid="118">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83"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90" dur="500"/>
                                        <p:tgtEl>
                                          <p:spTgt spid="120">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95" dur="500"/>
                                        <p:tgtEl>
                                          <p:spTgt spid="120">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00" dur="500"/>
                                        <p:tgtEl>
                                          <p:spTgt spid="120">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05" dur="500"/>
                                        <p:tgtEl>
                                          <p:spTgt spid="120">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10" dur="500"/>
                                        <p:tgtEl>
                                          <p:spTgt spid="120">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15"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2-02T10:15:53Z</cp:lastPrinted>
  <dcterms:modified xsi:type="dcterms:W3CDTF">2014-07-30T16:54:09Z</dcterms:modified>
  <cp:revision>320</cp:revision>
  <dc:subject/>
  <dc:title>Slide 1</dc:title>
</cp:coreProperties>
</file>